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2B1-9507-4D43-9916-B582045E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E80-9E3E-4C47-AC68-B9D04CB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1B9-FF92-4008-A8C2-4E4B80B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CBE-6F6D-4D86-AB54-87D3D828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3E2-C9DA-43A1-B6C3-710DDA2D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E54-B49B-4BA2-9546-C4875D9E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E2A-EE33-4122-891E-78126D9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A9C-A0A7-4382-9B47-A2C2EE39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0F6-9C7B-4C7A-B490-4D1EEFB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42C-B9CE-4478-AEB0-B2C34A2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018-67F9-4499-B6B5-4DDA91CC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848-7952-4DA2-88C8-2E3FA46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C1C-04AC-43FF-8EED-18140D4E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907920"/>
            <a:ext cx="4321440" cy="4897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341360"/>
            <a:ext cx="331128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1700280"/>
            <a:ext cx="2447640" cy="3384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080" y="996840"/>
            <a:ext cx="1721520" cy="36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5m x H:6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960" y="1709640"/>
            <a:ext cx="1721520" cy="368280"/>
          </a:xfrm>
          <a:prstGeom prst="rect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1m x H:6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51640" y="98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907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0360" y="9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17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73960" y="1386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72680" y="1333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2240" y="2357280"/>
            <a:ext cx="1721520" cy="368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57m x H:5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8160" y="5445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4920" y="501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640" y="46465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Fid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125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1916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565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3808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0053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1440" y="596916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line MEMPHYS 13/2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Cam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16:34Z</dcterms:created>
  <dc:creator>J.E Campagne</dc:creator>
  <dc:description/>
  <dc:language>en-US</dc:language>
  <cp:lastModifiedBy>J.E Campagne</cp:lastModifiedBy>
  <dcterms:modified xsi:type="dcterms:W3CDTF">2006-02-13T08:16:55Z</dcterms:modified>
  <cp:revision>1</cp:revision>
  <dc:subject/>
  <dc:title>Diapositive 1</dc:title>
</cp:coreProperties>
</file>